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ipase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oder nicht-signifika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höhung un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200" y="549360"/>
            <a:ext cx="75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ipase-Aktivität ↓ (oder nicht-signifikante Erhöhung unter 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11:24Z</dcterms:modified>
  <cp:revision>337</cp:revision>
  <dc:subject/>
  <dc:title>Vorstellung einer Neuheit</dc:title>
</cp:coreProperties>
</file>